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64373-C541-4AFB-A1F4-9DB471C3FC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0B2E9-2143-433D-8CCC-D925C3BE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FDD43-B35E-47FD-AC91-FD1F5E33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3BD71-9390-48E9-9267-81E7C4AEB7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64D24-EC09-413C-B2F2-6099BF06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35478-235B-44CA-9A06-045318C8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B2CD5-D312-42AC-8522-20FA3C08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20CE4-045C-4E4D-94FD-EE0B16D5B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BBCFF-3343-46EE-920B-F4253FD6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D8AA2-23F2-4BFE-9881-EA0B9868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8D3CC-F7FA-48D8-912F-CCA93BFD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EAFE1-4F40-4767-ABF6-31B0FDD7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A144-B3E6-402D-B724-EA283EDE30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胰腺癌，在进行支持治疗和术前准备后，拟行保留幽门的胰十二指肠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进行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诊断为癌症、对手术治疗缺乏信心及担心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胰胆管梗阻、癌肿侵犯腹膜后神经丛及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食欲下降、呕吐及癌肿消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感染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胰瘘、胆瘘、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糖异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，短期内出现持续上腹部疼痛、腹胀、食欲下降、消瘦等症状时，应注意进行胰腺疾病的筛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多餐，以均衡饮食为主，戒烟酒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计划进行放化疗。放化疗期间需注意定期复查血常规，以及早发现骨髓抑制征象。若血白细胞计数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应暂停放化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复查一次，若出现腹痛、进行性消瘦、贫血、乏力、发热等症状，及时到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饮食、遗传、环境、生活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症状并不典型，上腹部不适是常见的首发症状，梗阻性进行性黄疸是胰头癌患者最主要的临床表现。患者还可有消化道症状、消瘦乏力、腹部肿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、分子靶向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及疼痛情况，做好营养支持。术后应注意观察伤口情况及引流情况，及时发现感染、出血、胰瘘、胆瘘等并发症。做好术后随访等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胰腺癌的典型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胰腺癌发病的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胰腺癌术后可能出现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胰腺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ncreatic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恶性程度较高的一种消化道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中老年人群为主，男女发病比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5: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胰腺癌发生在胰头，其次为胰体或胰尾，全胰癌少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转移的途径主要是淋巴转移和直接浸润，其次为血行转移。最常见的部位为肝、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偶然发现小便颜色变黄并逐渐加深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出现皮肤巩膜黄染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皮肤、巩膜黄染。腹软，上腹部胆囊区可触及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胆囊增大，肝内、外胆管扩张、胆囊内未发现结石或其他占位性病变，胰管广泛扩张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肝大小正常、肝内胆管扩张。胆囊增大，胆总管扩张。十二指肠附近有一肿块，无远处转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Vat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部扩张，内有一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。胆总管扩张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无结石，乳头部狭窄。胰管扩张明显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腹部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多无明显体征，但多数患者在病程发展中因累及胆管可出现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患者可出现黄疸伴无痛性胆囊增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称为库瓦西耶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urvoisier sig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是胰头癌的重要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学检查、血清生化检查、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皮肝穿刺胆道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及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hipp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留幽门的胰头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PP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迄今为止，胰腺癌的常规化疗和放疗并未得到广泛开展，这与目前的放化疗药物对胰腺癌的敏感性均不强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40:20Z</dcterms:modified>
  <cp:revision>111</cp:revision>
  <dc:subject/>
  <dc:title>内科护理学</dc:title>
</cp:coreProperties>
</file>